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955-01EC-434C-AE6C-0F3DFE0BA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1789-68A4-4AF8-AE62-3AD80FB03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E64E-4DAD-48F8-9051-E68C21540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9DD0-8C1E-4969-B5B3-1D06B6CCD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DC8D-E4EC-4813-ADCC-BAC8E38BB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4C66-21A4-4476-AA4A-464B91E58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A6BE-302E-4F84-B10A-A9DA92B89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5B64-E384-4981-B3CD-E6F77D7F2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61B6-94F1-4C34-822F-B50122AAC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50D-DD13-4F20-B8E7-8AFCFC2E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56C-DFB4-45E9-AB38-01BAA31B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D5B-EFD2-43E8-8466-11ECDE4E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1CB-A43D-41E0-9417-7469281E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23E-925E-4E46-9608-E644F244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B67-131D-49B3-9540-E113064E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874-AD94-4615-BBBC-209AC339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FB6-C540-4991-BD8E-F39B0BF4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BFD-FB24-41C9-84D7-3036FA45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C8D-A2B7-41CC-94C3-E90613F7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386-2BC1-458D-8F5C-63C8D3D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C9E-AC5A-46A6-8BC2-A6CA82FA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4DF4-5F4D-41B5-B67A-6D5B44239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3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9" descr="Picture 1 08-31-43.png"/>
          <p:cNvPicPr/>
          <p:nvPr/>
        </p:nvPicPr>
        <p:blipFill>
          <a:blip r:embed="rId1"/>
          <a:stretch/>
        </p:blipFill>
        <p:spPr>
          <a:xfrm>
            <a:off x="2286000" y="2438280"/>
            <a:ext cx="6858000" cy="50612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0"/>
          <p:cNvGrpSpPr/>
          <p:nvPr/>
        </p:nvGrpSpPr>
        <p:grpSpPr>
          <a:xfrm>
            <a:off x="4952520" y="6400080"/>
            <a:ext cx="4191480" cy="456120"/>
            <a:chOff x="4952520" y="6400080"/>
            <a:chExt cx="4191480" cy="456120"/>
          </a:xfrm>
        </p:grpSpPr>
        <p:cxnSp>
          <p:nvCxnSpPr>
            <p:cNvPr id="76" name="Straight Arrow Connector 6"/>
            <p:cNvCxnSpPr/>
            <p:nvPr/>
          </p:nvCxnSpPr>
          <p:spPr>
            <a:xfrm flipH="1" flipV="1">
              <a:off x="4952520" y="6400080"/>
              <a:ext cx="838800" cy="229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7" name="TextBox 10"/>
            <p:cNvSpPr/>
            <p:nvPr/>
          </p:nvSpPr>
          <p:spPr>
            <a:xfrm>
              <a:off x="5790960" y="648792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face Run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7" descr="Picture 1 08-31-43.png"/>
          <p:cNvPicPr/>
          <p:nvPr/>
        </p:nvPicPr>
        <p:blipFill>
          <a:blip r:embed="rId1"/>
          <a:stretch/>
        </p:blipFill>
        <p:spPr>
          <a:xfrm>
            <a:off x="5334120" y="762120"/>
            <a:ext cx="4267080" cy="314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219320"/>
          <a:ext cx="5105520" cy="148572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on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a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0" y="3733920"/>
          <a:ext cx="9144000" cy="2663640"/>
        </p:xfrm>
        <a:graphic>
          <a:graphicData uri="http://schemas.openxmlformats.org/drawingml/2006/table">
            <a:tbl>
              <a:tblPr/>
              <a:tblGrid>
                <a:gridCol w="1219320"/>
                <a:gridCol w="2971800"/>
                <a:gridCol w="1828800"/>
                <a:gridCol w="3124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itational potenti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gravitation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potenti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rm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p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face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9" descr="Picture 1 08-31-43.png"/>
          <p:cNvPicPr/>
          <p:nvPr/>
        </p:nvPicPr>
        <p:blipFill>
          <a:blip r:embed="rId1"/>
          <a:stretch/>
        </p:blipFill>
        <p:spPr>
          <a:xfrm>
            <a:off x="1523880" y="2057400"/>
            <a:ext cx="6858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15:31Z</dcterms:created>
  <dc:creator>Julie Libarkin</dc:creator>
  <dc:description/>
  <dc:language>en-US</dc:language>
  <cp:lastModifiedBy>Nicole LaDue</cp:lastModifiedBy>
  <dcterms:modified xsi:type="dcterms:W3CDTF">2011-01-14T18:54:23Z</dcterms:modified>
  <cp:revision>306</cp:revision>
  <dc:subject/>
  <dc:title>PowerPoint Presentation</dc:title>
</cp:coreProperties>
</file>